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D6A-9AC4-4E3B-9C43-386AA1D4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57B-A0DC-4809-8695-AFFF8FA2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7B9-B46C-4A47-B02A-8FF8BB98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790-B483-4261-B8C9-C8ABDA6C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4B6B-8A52-4373-9D97-8F3B2B72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3B47-F2C7-4E51-9B8C-6B3A9287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1CF5-0F8A-4027-9F9E-A265E20C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0721-E647-44BD-97F2-808B87AD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212B-1BCD-44B3-ACDB-0CA6A2AE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9599-8C9E-4A74-887D-C467BFC4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2F13-4D32-4C9B-BA26-FF1AF93A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D8F-E3D5-4B56-A2FD-F1D53A16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AACF-5EF1-485F-BEA0-758241C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194D-9F84-43EB-AEC1-A5D2A3CB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28A0-6F81-4D7C-8F06-A758810E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BFE0-9EFC-44CE-8D73-9BAA09AB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636A-A697-4093-9702-0EF3EB12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2D11-B4E1-4721-AD20-F2857569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C4A-7210-4284-ADF4-B945416D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82F-4972-4108-BCE0-F2197EC9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D7A-A185-413F-9DD7-A6D24F0F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929-69C6-405B-94ED-E672C315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B7D5-9B6F-44DC-971B-56A6A70A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DEE-618B-49B2-B572-AF8DF6B7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4467-5879-4A9D-A6EB-2C21C9547E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ADE1-7406-4652-9AF2-554D637964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920" y="105264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амое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     интересное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     о Солнц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Исследовательская работа ученицы 4 класс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МОУ «Видимская СОШ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Verdana"/>
              </a:rPr>
              <a:t>Любимовой Анастас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sun.jpg"/>
          <p:cNvPicPr/>
          <p:nvPr/>
        </p:nvPicPr>
        <p:blipFill>
          <a:blip r:embed="rId1"/>
          <a:stretch/>
        </p:blipFill>
        <p:spPr>
          <a:xfrm>
            <a:off x="0" y="0"/>
            <a:ext cx="32036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14764" t="31496" r="14764" b="0"/>
          <a:stretch/>
        </p:blipFill>
        <p:spPr>
          <a:xfrm>
            <a:off x="3635280" y="2300400"/>
            <a:ext cx="5095800" cy="3717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295272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Диаметр солнца почти 1 392 000 км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Масса солнца – 98% массы нашей солнечной системы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2" name="rOq1b40OuaEsKM:" descr=""/>
          <p:cNvPicPr/>
          <p:nvPr/>
        </p:nvPicPr>
        <p:blipFill>
          <a:blip r:embed="rId1"/>
          <a:srcRect l="9669" t="5974" r="3232" b="6615"/>
          <a:stretch/>
        </p:blipFill>
        <p:spPr>
          <a:xfrm>
            <a:off x="2916360" y="2924280"/>
            <a:ext cx="3889080" cy="3168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Что можно увидеть на Солнц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10676" t="1563" r="8944" b="13873"/>
          <a:stretch/>
        </p:blipFill>
        <p:spPr>
          <a:xfrm>
            <a:off x="3132000" y="1989000"/>
            <a:ext cx="2880000" cy="395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олнечные вспышки и Полярное сияни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9994" t="6805" r="9001" b="2307"/>
          <a:stretch/>
        </p:blipFill>
        <p:spPr>
          <a:xfrm>
            <a:off x="1042920" y="2349360"/>
            <a:ext cx="2087640" cy="288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4244" t="9666" r="5311" b="6467"/>
          <a:stretch/>
        </p:blipFill>
        <p:spPr>
          <a:xfrm>
            <a:off x="4716360" y="2205000"/>
            <a:ext cx="3456000" cy="3743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8075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олнце вращается вокруг центра нашей галактики, Млечного пути, со скоростью 220 км/с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9" name="m7ZOd4EgjCrZyM: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329080" cy="3648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олнце относится к классу жёлтых карликов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TnmfILr0hE_u4M:" descr=""/>
          <p:cNvPicPr/>
          <p:nvPr/>
        </p:nvPicPr>
        <p:blipFill>
          <a:blip r:embed="rId1"/>
          <a:stretch/>
        </p:blipFill>
        <p:spPr>
          <a:xfrm>
            <a:off x="2627280" y="2335320"/>
            <a:ext cx="4176720" cy="3284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олнце на самом деле бело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3" name="VleMSO5t8SPEUM:" descr=""/>
          <p:cNvPicPr/>
          <p:nvPr/>
        </p:nvPicPr>
        <p:blipFill>
          <a:blip r:embed="rId1"/>
          <a:stretch/>
        </p:blipFill>
        <p:spPr>
          <a:xfrm>
            <a:off x="1908000" y="1854360"/>
            <a:ext cx="5256360" cy="3966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олнышко-растен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5270" t="9110" r="9781" b="12704"/>
          <a:stretch/>
        </p:blipFill>
        <p:spPr>
          <a:xfrm>
            <a:off x="2340000" y="1700280"/>
            <a:ext cx="4392720" cy="4267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А.С.Пушкин об астрономическом явлении – белые ноч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«Не пуская тьму ночную, на голубые небеса, одна заря сменить другую спешит, дав ночи полчас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g7A0bUjA8OwO8M:" descr=""/>
          <p:cNvPicPr/>
          <p:nvPr/>
        </p:nvPicPr>
        <p:blipFill>
          <a:blip r:embed="rId2"/>
          <a:stretch/>
        </p:blipFill>
        <p:spPr>
          <a:xfrm>
            <a:off x="2627280" y="3409920"/>
            <a:ext cx="3816360" cy="2863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 городе Шартр есть собор, фасад которого украшает символ солнца – окно-роз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276720" y="2421000"/>
            <a:ext cx="3079800" cy="4105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3026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Arial"/>
              </a:rPr>
              <a:t>Цель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: узнать и изучить интересные факты о Солнце </a:t>
            </a:r>
            <a:br>
              <a:rPr sz="4000"/>
            </a:br>
            <a:br>
              <a:rPr sz="4000"/>
            </a:br>
            <a:r>
              <a:rPr b="0" lang="en-US" sz="4000" spc="-1" strike="noStrike" u="sng">
                <a:solidFill>
                  <a:srgbClr val="ffff99"/>
                </a:solidFill>
                <a:uFillTx/>
                <a:latin typeface="Arial"/>
              </a:rPr>
              <a:t>Задачи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920" y="2852640"/>
            <a:ext cx="6842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знать, сколько лет Солнц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что будет с Солнцем в будуще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что происходит на поверхности Солн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что сделал человек для «обожествления» Солнц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овести опыт «Солнечное затмение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Единственный в России Музей солнца находится в Санкт-Петербурге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24000" y="2782800"/>
            <a:ext cx="4896000" cy="3279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На флаге Гренландии символы – солнце и снег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14680" y="1957320"/>
            <a:ext cx="5715000" cy="3814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Флаг Тайван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74680" y="1600200"/>
            <a:ext cx="6792840" cy="453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 зоопарке Лондона находится символ восходящего солнца – это жук-скарабей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124000" y="2422440"/>
            <a:ext cx="4824360" cy="3621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 Иерусалиме в одном из христианских соборов на полу находится изображение солнца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11600" y="2349360"/>
            <a:ext cx="3292200" cy="378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Один из семи чудес света – Колос Родосский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2" name="WP-PBdK0X1BbHM: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3243240" cy="367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3" name="ZKHICEqQkGh3UM:" descr=""/>
          <p:cNvPicPr/>
          <p:nvPr/>
        </p:nvPicPr>
        <p:blipFill>
          <a:blip r:embed="rId2"/>
          <a:stretch/>
        </p:blipFill>
        <p:spPr>
          <a:xfrm>
            <a:off x="4871880" y="2492280"/>
            <a:ext cx="2892600" cy="3816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олнце, море и песо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5" name="zm1F3dwWcdcncM: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311640" cy="2652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16" name="PY8pLFP0GE9eGM: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4248000" cy="320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Вот такое оно, наше Солнце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dJSifexa46vYGM: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3600360" cy="468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20" name="sH8jCOF0eTEKMM: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3384720" cy="224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2" name="V_Wf-MZurF6jPM: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681800" cy="4321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ОЛНЦЕ – ЭТО ЗВЕЗД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-UmI6nSW27jfjM: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480360" cy="4124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В давние времена поклонялись солнцу, как богу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8" name="" descr="Интересные факты о солнце "/>
          <p:cNvPicPr/>
          <p:nvPr/>
        </p:nvPicPr>
        <p:blipFill>
          <a:blip r:embed="rId1"/>
          <a:stretch/>
        </p:blipFill>
        <p:spPr>
          <a:xfrm>
            <a:off x="1692360" y="1700280"/>
            <a:ext cx="5904000" cy="4416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Свет до земли доходит примерно за 8 минут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0" name="0uk5_JBriT3zQM:" descr=""/>
          <p:cNvPicPr/>
          <p:nvPr/>
        </p:nvPicPr>
        <p:blipFill>
          <a:blip r:embed="rId1"/>
          <a:stretch/>
        </p:blipFill>
        <p:spPr>
          <a:xfrm>
            <a:off x="1979640" y="1922400"/>
            <a:ext cx="5329080" cy="3992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1кг груза на Солнце весил бы 28кг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2" name="acVmoCNScIldvM:" descr=""/>
          <p:cNvPicPr/>
          <p:nvPr/>
        </p:nvPicPr>
        <p:blipFill>
          <a:blip r:embed="rId1"/>
          <a:stretch/>
        </p:blipFill>
        <p:spPr>
          <a:xfrm>
            <a:off x="1763640" y="1760400"/>
            <a:ext cx="5616720" cy="4208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Каждую секунду на Солнце сгорает 700 млрд. тонн водорода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4" name="2Gx_NTnL_IZjFM: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249800" cy="4249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Закончит свою жизнь карликом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6" name="GxRR5WFUq2-ByM:" descr=""/>
          <p:cNvPicPr/>
          <p:nvPr/>
        </p:nvPicPr>
        <p:blipFill>
          <a:blip r:embed="rId1"/>
          <a:srcRect l="0" t="0" r="0" b="3198"/>
          <a:stretch/>
        </p:blipFill>
        <p:spPr>
          <a:xfrm>
            <a:off x="2268360" y="1484280"/>
            <a:ext cx="4535640" cy="439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Солнечные затмени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133720" y="2492280"/>
            <a:ext cx="4876560" cy="2745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09:22:38Z</dcterms:created>
  <dc:creator>1</dc:creator>
  <dc:description/>
  <dc:language>en-US</dc:language>
  <cp:lastModifiedBy>1</cp:lastModifiedBy>
  <dcterms:modified xsi:type="dcterms:W3CDTF">2012-01-09T11:56:47Z</dcterms:modified>
  <cp:revision>17</cp:revision>
  <dc:subject/>
  <dc:title>Самое  интересное  о солнце</dc:title>
</cp:coreProperties>
</file>